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8DD-A751-46A3-9D1D-28D487F3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1A1-1B93-4F2F-B1ED-2CA6CA68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2869-CAC9-418B-9948-A4C17F65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8F2D-6C0F-46B4-B02E-22211388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ED3C-DEDA-42D9-9968-E6FCD515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144F-CB78-4043-B2EC-845FC16E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AC38-7857-4BA6-AFB8-E429D64D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4F95-86B9-4D91-87BF-F97482B0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74A3-980C-4F09-9C35-CB9327C7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DEDA-EB98-4EB5-A9CF-D8ECC9D0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940A-85DC-4086-88D8-650B8CAB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7BD1-A639-4D57-9925-6A1698C7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9956-67BE-4679-8FCC-731EA334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5B17-344A-4147-8415-1BA74ED5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9324-699D-43EA-B290-EC0B4A3B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6327-1385-42CD-90F7-3AB9218F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D884-6CDB-47C8-B902-DB527D13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9FB-9F78-4326-9339-627E1907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44A-D3A5-4838-890E-CDFFD0D1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3E4-56BF-41FE-83CA-9D42C53B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A2B-6D12-4FBB-9302-7486348C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DFD-EB33-4815-889B-74234B84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CFD-623C-4699-89AA-A8ACD30D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484-B385-4BF5-BECB-0F9B61EC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A79D-6348-44C6-9D08-0A0CB31BC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6589-837C-4313-8918-BA55DB5104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maichin@mineola.k12.ny.us" TargetMode="External"/><Relationship Id="rId2" Type="http://schemas.openxmlformats.org/officeDocument/2006/relationships/hyperlink" Target="mailto:wsmith@mineola.k12.ny.us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aimsweb.com/login.php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rcld.org/" TargetMode="External"/><Relationship Id="rId2" Type="http://schemas.openxmlformats.org/officeDocument/2006/relationships/hyperlink" Target="http://www.ncld.org/" TargetMode="External"/><Relationship Id="rId3" Type="http://schemas.openxmlformats.org/officeDocument/2006/relationships/hyperlink" Target="http://www.nasdse.org/" TargetMode="External"/><Relationship Id="rId4" Type="http://schemas.openxmlformats.org/officeDocument/2006/relationships/hyperlink" Target="http://www.rtinetwork.org/" TargetMode="External"/><Relationship Id="rId5" Type="http://schemas.openxmlformats.org/officeDocument/2006/relationships/hyperlink" Target="http://www.aimsweb.com/" TargetMode="External"/><Relationship Id="rId6" Type="http://schemas.openxmlformats.org/officeDocument/2006/relationships/hyperlink" Target="http://www.interventioncentral.org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tI in the Secondary School Setting: Making it Work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438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nnifer Maich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jmaichin@mineola.k12.ny.u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ttney Smi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smith@mineola.k12.ny.u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4952880"/>
            <a:ext cx="2286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mplementation: Part 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e the staff about what RtI 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to fail” vs. R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ct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rage with New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determining whether a child has a specific learning disability, a local educational agency may use a process that determines if the child responds to a scientific, research based intervention as part of the evaluation procedures”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DEA 2004, Title 20, Section 1414, subsection b(6)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etting Stuck in Tier 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enario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team has an IST meeting to discuss a student who is struggling in school.  A few strategies were brainstormed after a lengthy conversation about what the student can’t do.  Six weeks later, the team meets again and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486400" y="3429000"/>
            <a:ext cx="22096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trategy Development (Tier I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acher Ownershi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s. “Buy I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on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te Faculty Meeting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 from IST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working in groups to brainstorm strate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ed Out the ones that are not measur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the collective strategies with the entire faculty &amp; bring them to IST 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tach the strategies to resear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mplementatio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94160" y="1905120"/>
            <a:ext cx="2057400" cy="2819160"/>
          </a:xfrm>
          <a:prstGeom prst="rtTriangl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056680" y="1905120"/>
            <a:ext cx="2057400" cy="2819160"/>
          </a:xfrm>
          <a:prstGeom prst="rtTriangl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526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304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304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2895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37339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19720" y="37339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5105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ool-w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5105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vidu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124080" y="47239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257800" y="47239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5880" y="2057400"/>
            <a:ext cx="26672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Three Tier RTI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ff Development / Curriculum Writ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 Solving Approach vs. Standard Treatment 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eduling of IST 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2133720"/>
            <a:ext cx="25905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ter Schedule Chang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eduling of Committee 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5029200" y="1295280"/>
            <a:ext cx="3657600" cy="5334120"/>
          </a:xfrm>
          <a:prstGeom prst="rtTriangl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mplementation: Part II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04920" y="1295280"/>
            <a:ext cx="3657600" cy="5334120"/>
          </a:xfrm>
          <a:prstGeom prst="rtTriangl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15200" y="5334120"/>
            <a:ext cx="99072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ier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S / 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4343400"/>
            <a:ext cx="266688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ier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hedul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grams (ROCK, Universal Screenings, DIG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ent Literac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lkthrough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 Meeti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3048120"/>
            <a:ext cx="2666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ier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S / IST (movement between tier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ategic Monitoring (month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ynamic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sitive Reinforcement P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3048120"/>
            <a:ext cx="243828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ier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hedul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S Tier I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mall group counsel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1752480"/>
            <a:ext cx="17528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ier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BA / B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:1 Counsel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81080" y="1752480"/>
            <a:ext cx="19814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ier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S Tier II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gress Monitor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05520" y="990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76520" y="9907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ool-w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38280" y="12952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15000" y="12952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6002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T 6 week follow-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86600" y="16002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re Team Meet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1219320"/>
            <a:ext cx="1904760" cy="1371600"/>
          </a:xfrm>
          <a:prstGeom prst="irregularSeal2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1143000"/>
            <a:ext cx="1905120" cy="1371600"/>
          </a:xfrm>
          <a:prstGeom prst="irregularSeal2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ur Structure of Academic Support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6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G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ble ELA --- with a Reading Teach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ble Period Ma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7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Gra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dicated Period --- On-Target; AIS Math Tier II or III; AIS ELA Tier II or III; or any combin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8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G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dicated Period --- On-Target; AIS Math Tier II or III; AIS ELA Tier II or III; or any comb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15000" y="5867280"/>
            <a:ext cx="30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ter Schedule Change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see attachm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457200" y="1143000"/>
            <a:ext cx="3657600" cy="5334120"/>
          </a:xfrm>
          <a:prstGeom prst="rtTriangle">
            <a:avLst/>
          </a:prstGeom>
          <a:solidFill>
            <a:srgbClr val="0099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1143000"/>
            <a:ext cx="3657600" cy="5334120"/>
          </a:xfrm>
          <a:prstGeom prst="rtTriangle">
            <a:avLst/>
          </a:prstGeom>
          <a:solidFill>
            <a:srgbClr val="0099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sual Representation of Tiers II &amp; III in 7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and 8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Grad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ay A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ing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ing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h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h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A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A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h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h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n-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n-Targ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71800" y="251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259092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-6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71800" y="419112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-14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05720" y="5410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981080"/>
            <a:ext cx="533160" cy="1752840"/>
          </a:xfrm>
          <a:custGeom>
            <a:avLst/>
            <a:gdLst>
              <a:gd name="textAreaLeft" fmla="*/ 0 w 533160"/>
              <a:gd name="textAreaRight" fmla="*/ 192600 w 53316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62320" y="3657600"/>
            <a:ext cx="533160" cy="1600200"/>
          </a:xfrm>
          <a:custGeom>
            <a:avLst/>
            <a:gdLst>
              <a:gd name="textAreaLeft" fmla="*/ 0 w 533160"/>
              <a:gd name="textAreaRight" fmla="*/ 192600 w 5331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33412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ay B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ing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ing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h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h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A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A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h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h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n-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n-Targ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10280" y="2057400"/>
            <a:ext cx="533520" cy="1600200"/>
          </a:xfrm>
          <a:custGeom>
            <a:avLst/>
            <a:gdLst>
              <a:gd name="textAreaLeft" fmla="*/ 0 w 533520"/>
              <a:gd name="textAreaRight" fmla="*/ 192600 w 5335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77120" y="3657600"/>
            <a:ext cx="533160" cy="1600200"/>
          </a:xfrm>
          <a:custGeom>
            <a:avLst/>
            <a:gdLst>
              <a:gd name="textAreaLeft" fmla="*/ 0 w 533160"/>
              <a:gd name="textAreaRight" fmla="*/ 192600 w 5331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24480" y="5257800"/>
            <a:ext cx="381240" cy="838080"/>
          </a:xfrm>
          <a:custGeom>
            <a:avLst/>
            <a:gdLst>
              <a:gd name="textAreaLeft" fmla="*/ 0 w 381240"/>
              <a:gd name="textAreaRight" fmla="*/ 137520 w 3812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620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-6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86600" y="419112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-14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43200" y="556272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1676520"/>
            <a:ext cx="11430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504960" y="1676520"/>
            <a:ext cx="11430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dentification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&amp;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gress Monitori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971800" y="32767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dentif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A S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h S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 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Scre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s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ary Articulation Mee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dance and Discipline Rec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IMS Web (Tracking Program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Curriculum Based Measurement (R-CB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r I – Universal Screen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enchmarking 3x/y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r II 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nthly progre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r III – Progress Monitor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eekly / bi-month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h Concepts and Applications (M-CA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r I – Universal Screening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enchmarking 3x/year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r II 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nthly strateg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r III – Progress Monitor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eekly / bi-month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Summer and Fall Training Workshops"/>
          <p:cNvPicPr/>
          <p:nvPr/>
        </p:nvPicPr>
        <p:blipFill>
          <a:blip r:embed="rId1"/>
          <a:srcRect l="25345" t="0" r="6196" b="60451"/>
          <a:stretch/>
        </p:blipFill>
        <p:spPr>
          <a:xfrm>
            <a:off x="4419720" y="5943600"/>
            <a:ext cx="3200400" cy="7063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209680" y="365760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53080" y="3352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bert Einstein once said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definition of insanity is doing the same thing over and over again and expecting different result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048120" y="380880"/>
            <a:ext cx="33336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86400" y="1039320"/>
            <a:ext cx="3200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ample AIMsWeb Data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8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Grade Tier II AI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37595" t="33337" r="28126" b="10420"/>
          <a:stretch/>
        </p:blipFill>
        <p:spPr>
          <a:xfrm>
            <a:off x="152280" y="380880"/>
            <a:ext cx="5450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ample Student Benchmark Repor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rcRect l="19532" t="17709" r="14844" b="20835"/>
          <a:stretch/>
        </p:blipFill>
        <p:spPr>
          <a:xfrm>
            <a:off x="609480" y="1295280"/>
            <a:ext cx="7772400" cy="5191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276720" y="2743200"/>
            <a:ext cx="16761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05120" y="3657600"/>
            <a:ext cx="990360" cy="1523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95680" y="1523880"/>
            <a:ext cx="16765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24280" y="2362320"/>
            <a:ext cx="60984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ading Improvement Report for 2008-2009 School Year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809640" y="2050920"/>
            <a:ext cx="7648560" cy="43941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581280" y="2209680"/>
            <a:ext cx="19051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4038480"/>
            <a:ext cx="23623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00600" y="5334120"/>
            <a:ext cx="25146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Benchmark Scores for 2008-2009 School Yea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46120" y="1755720"/>
            <a:ext cx="7912080" cy="46483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3200400" y="1930320"/>
            <a:ext cx="220968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aimsweb.com/login.php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rcRect l="17188" t="13540" r="19532" b="72732"/>
          <a:stretch/>
        </p:blipFill>
        <p:spPr>
          <a:xfrm>
            <a:off x="38160" y="990720"/>
            <a:ext cx="906768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rcRect l="27343" t="27086" r="58596" b="33337"/>
          <a:stretch/>
        </p:blipFill>
        <p:spPr>
          <a:xfrm>
            <a:off x="1523880" y="2590920"/>
            <a:ext cx="1949400" cy="4114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447920" y="2057400"/>
            <a:ext cx="10666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lementation: Part I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ous Improve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Manua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Timeline ---- meetings,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cols and Task 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Based Inter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-304920" y="57240"/>
            <a:ext cx="9258480" cy="674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114640" y="2946240"/>
            <a:ext cx="4457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71640" y="4660920"/>
            <a:ext cx="674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29040" y="5003640"/>
            <a:ext cx="262872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1 - Uni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 classroom instruction using research-based strategies with targeted studen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029040" y="3289320"/>
            <a:ext cx="2628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2 - Strateg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Group (10-12 students) AIS Classe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enchmarking three times / yea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4400" y="1003320"/>
            <a:ext cx="1676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3 - Intens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group (4-6 students) AIS cla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 Monitoring every 2-3 wee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43040" y="5232240"/>
            <a:ext cx="205740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t-Risk Stud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analyzes data, refers student to IST and moves student to Tier 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2217800">
            <a:off x="-171360" y="39747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71560" y="3517920"/>
            <a:ext cx="1143000" cy="7999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data checks, regression/no progres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86360" y="5232240"/>
            <a:ext cx="205740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n Target Stud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analyzes data and keeps student in Tier 1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2775200">
            <a:off x="742680" y="23745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772240" y="3517920"/>
            <a:ext cx="114300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data chec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666880" y="2057400"/>
            <a:ext cx="182880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gression /no progress, revise (repeat if not successful) --- consider referral to C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00600" y="2057400"/>
            <a:ext cx="137160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e with progr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3111800">
            <a:off x="1885320" y="774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9954800">
            <a:off x="7143840" y="26031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9942200">
            <a:off x="8172360" y="408924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5840" y="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990880" y="1695600"/>
            <a:ext cx="280044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RtI Resources/Link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nrcld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ww.ncld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nasdse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http://www.rtinetwork.org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www.aimsweb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www.interventioncentral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sential Component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660760" y="1951200"/>
            <a:ext cx="3822120" cy="3822120"/>
            <a:chOff x="2660760" y="1951200"/>
            <a:chExt cx="3822120" cy="3822120"/>
          </a:xfrm>
        </p:grpSpPr>
        <p:sp>
          <p:nvSpPr>
            <p:cNvPr id="218" name="_s46089"/>
            <p:cNvSpPr/>
            <p:nvPr/>
          </p:nvSpPr>
          <p:spPr>
            <a:xfrm>
              <a:off x="3271680" y="1951200"/>
              <a:ext cx="2600640" cy="2600280"/>
            </a:xfrm>
            <a:custGeom>
              <a:avLst/>
              <a:gdLst>
                <a:gd name="textAreaLeft" fmla="*/ 0 w 2600640"/>
                <a:gd name="textAreaRight" fmla="*/ 2601000 w 2600640"/>
                <a:gd name="textAreaTop" fmla="*/ 0 h 2600280"/>
                <a:gd name="textAreaBottom" fmla="*/ 2600640 h 26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_s46094"/>
            <p:cNvSpPr/>
            <p:nvPr/>
          </p:nvSpPr>
          <p:spPr>
            <a:xfrm rot="5400000">
              <a:off x="3882600" y="2561760"/>
              <a:ext cx="2600280" cy="2600280"/>
            </a:xfrm>
            <a:custGeom>
              <a:avLst/>
              <a:gdLst>
                <a:gd name="textAreaLeft" fmla="*/ 0 w 2600280"/>
                <a:gd name="textAreaRight" fmla="*/ 2600640 w 2600280"/>
                <a:gd name="textAreaTop" fmla="*/ 0 h 2600280"/>
                <a:gd name="textAreaBottom" fmla="*/ 2600640 h 26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_s46090"/>
            <p:cNvSpPr/>
            <p:nvPr/>
          </p:nvSpPr>
          <p:spPr>
            <a:xfrm rot="10800000">
              <a:off x="3271680" y="3173040"/>
              <a:ext cx="2600640" cy="2600280"/>
            </a:xfrm>
            <a:custGeom>
              <a:avLst/>
              <a:gdLst>
                <a:gd name="textAreaLeft" fmla="*/ 0 w 2600640"/>
                <a:gd name="textAreaRight" fmla="*/ 2601000 w 2600640"/>
                <a:gd name="textAreaTop" fmla="*/ 0 h 2600280"/>
                <a:gd name="textAreaBottom" fmla="*/ 2600640 h 26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46092"/>
            <p:cNvSpPr/>
            <p:nvPr/>
          </p:nvSpPr>
          <p:spPr>
            <a:xfrm rot="16200000">
              <a:off x="2660760" y="2561760"/>
              <a:ext cx="2600280" cy="2600280"/>
            </a:xfrm>
            <a:custGeom>
              <a:avLst/>
              <a:gdLst>
                <a:gd name="textAreaLeft" fmla="*/ 0 w 2600280"/>
                <a:gd name="textAreaRight" fmla="*/ 2600640 w 2600280"/>
                <a:gd name="textAreaTop" fmla="*/ 0 h 2600280"/>
                <a:gd name="textAreaBottom" fmla="*/ 2600640 h 26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_s46087"/>
            <p:cNvSpPr/>
            <p:nvPr/>
          </p:nvSpPr>
          <p:spPr>
            <a:xfrm>
              <a:off x="5264280" y="2190600"/>
              <a:ext cx="9792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iered Instruction /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erven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46088"/>
            <p:cNvSpPr/>
            <p:nvPr/>
          </p:nvSpPr>
          <p:spPr>
            <a:xfrm>
              <a:off x="2901960" y="4556160"/>
              <a:ext cx="97956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mil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volvement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_s46091"/>
            <p:cNvSpPr/>
            <p:nvPr/>
          </p:nvSpPr>
          <p:spPr>
            <a:xfrm>
              <a:off x="2900520" y="2192400"/>
              <a:ext cx="9792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igh Qualit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lassroom Instru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46093"/>
            <p:cNvSpPr/>
            <p:nvPr/>
          </p:nvSpPr>
          <p:spPr>
            <a:xfrm>
              <a:off x="5265720" y="4554360"/>
              <a:ext cx="97956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ngoing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udent Assessment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out the right building-level leadership, RtI will not realize the potential it has in fundamentally altering for the better both the delivery system and educational practice in our schools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r. David P. Prasse, Professor and Dean of the School of Education, Loyola University Chicag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88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YSED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ril 2008 State Education Department Field Me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zes the use of RtI in the State'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to determine learning disabilit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LD)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, effective July 1, 20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all school districts have an RtI program in place as part of the process to determine if a student in grades K-4 is a student with a learning disability in the area of read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  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ffective on or after July 1, 2012, a school district shall not use the severe discrepancy criteria to determine that a student in kindergarten through grade four has a learning disability in the area of read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”  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[8 NYCRR section 200.4(j)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ior to the State’s Memo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 200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termining whether a child has a specific learning disability, a local agency may use a process that determines if the child responds to scientific research-based intervention as part of the evaluation procedures…” (H.R. 1350, 2004, section 614 (b)(6)(A&amp;B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 rot="20844600">
            <a:off x="4267080" y="5257440"/>
            <a:ext cx="3562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ess stringen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5410080" y="4876920"/>
            <a:ext cx="7632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ckground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I Established I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stant Memb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ST Chairperson, Guidance Counselor, Speech Therapist, School Psychologist, Par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Varying Memb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eam Teachers (General and Special Education), Encore Teachers, Support Staff, Social Worker, Stud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Attached “Initial Referral Protocol and Task Lis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Image of Slide 22"/>
          <p:cNvPicPr/>
          <p:nvPr/>
        </p:nvPicPr>
        <p:blipFill>
          <a:blip r:embed="rId1"/>
          <a:srcRect l="16999" t="32667" r="25000" b="12669"/>
          <a:stretch/>
        </p:blipFill>
        <p:spPr>
          <a:xfrm>
            <a:off x="5410080" y="1295280"/>
            <a:ext cx="25909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ackground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94160" y="1905120"/>
            <a:ext cx="2057400" cy="2819160"/>
          </a:xfrm>
          <a:prstGeom prst="rtTriangl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056680" y="1905120"/>
            <a:ext cx="2057400" cy="2819160"/>
          </a:xfrm>
          <a:prstGeom prst="rtTriangl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304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0400" y="304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2895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37339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37339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5105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ool-w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5105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vidu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124080" y="47239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257800" y="47239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1981080"/>
            <a:ext cx="259092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Constant Members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IST Chairperson, Guidance Counselor, Speech Therapist, School Psychologist, Par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Varying Members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: Team Teachers (General and Special Education), Encore Teachers, Support Staff, Social Worker, Stud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61722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Attached “Initial Referral Protocol and Task Lis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1371600"/>
            <a:ext cx="190476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.O.C.K. Committ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IS Team Meet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PST Meeting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Guidance Meet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ntent Literacy Committ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LC Guiding Coal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523880"/>
            <a:ext cx="3429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Well Established IS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914400"/>
            <a:ext cx="4952880" cy="51055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914400"/>
            <a:ext cx="4952880" cy="51055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er I: What is i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classroom i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in the general education class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quality program incorporating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-based instructional strategies or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-going assessment of strengths and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-going professional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22:28Z</dcterms:created>
  <dc:creator>User</dc:creator>
  <dc:description/>
  <dc:language>en-US</dc:language>
  <cp:lastModifiedBy>User</cp:lastModifiedBy>
  <dcterms:modified xsi:type="dcterms:W3CDTF">2009-12-16T14:08:15Z</dcterms:modified>
  <cp:revision>30</cp:revision>
  <dc:subject/>
  <dc:title>Response to Intervention (RTI) &amp; The IST Process</dc:title>
</cp:coreProperties>
</file>